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2E4F-C062-4F09-ACE0-14303A3A5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D50C-6EF0-45C7-8276-F166F3E8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EB6E-B2CA-4F5B-A844-95925377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4AAE-C695-4762-B15D-5922CC936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A8A99-5558-4383-BA26-81CBE1B25D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255F9-CDFF-4F89-9EA3-8EA22DB2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F128C-6356-4A3C-A415-D16D7CCC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BD9EC-E504-4C01-B003-852362F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D34CA-3EBB-4FC6-A59C-30ABBA06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588A-5481-442E-B3E2-4764678F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82955-C8D6-4A23-A47C-96E01838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DD47-9CAA-4FE5-9062-6DC4BBC7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97A09-0926-4ACA-A563-A3862E91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D80A7-765B-4005-9914-538F4E8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23350-E0DF-4909-986D-F6744CCB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927F9-E055-49F4-A98B-277A78C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B9CD9-DB7A-48A2-9FB7-541A01E35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176B-6449-4B4D-9DF2-16F5E6D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9476-5FF8-478F-8BD4-A5F3D1B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17EA-0CD6-4DE3-955D-10E78B5A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B290-A25D-4B56-B247-62236919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768F-52EC-4E30-A370-369A660B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E2B0-8BB5-4AEF-BFF5-CF0ED3E3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63F1-BE63-4648-B9C0-7AAA1E2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D02-C925-45F1-97AD-4EAC4C469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47064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2209680" y="6610320"/>
            <a:ext cx="22100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8456760" cy="12956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9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3693960"/>
            <a:ext cx="1909800" cy="1909800"/>
            <a:chOff x="0" y="3693960"/>
            <a:chExt cx="1909800" cy="1909800"/>
          </a:xfrm>
        </p:grpSpPr>
        <p:sp>
          <p:nvSpPr>
            <p:cNvPr id="79" name=""/>
            <p:cNvSpPr/>
            <p:nvPr/>
          </p:nvSpPr>
          <p:spPr>
            <a:xfrm>
              <a:off x="0" y="380052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560" y="369396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1320" y="449892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42" y="65"/>
                  </a:moveTo>
                  <a:lnTo>
                    <a:pt x="58" y="72"/>
                  </a:lnTo>
                  <a:lnTo>
                    <a:pt x="62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44" y="56"/>
                  </a:lnTo>
                  <a:lnTo>
                    <a:pt x="37" y="45"/>
                  </a:lnTo>
                  <a:lnTo>
                    <a:pt x="31" y="34"/>
                  </a:lnTo>
                  <a:lnTo>
                    <a:pt x="26" y="20"/>
                  </a:lnTo>
                  <a:lnTo>
                    <a:pt x="9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1" y="56"/>
                  </a:lnTo>
                  <a:lnTo>
                    <a:pt x="42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1E04-372F-41C5-9524-F66866DA3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228276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¿ CÓMO PROYECTAR UTILIZANDO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EL DOCTOR FINANZA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516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6608880"/>
            <a:ext cx="2210040" cy="249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587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a vez que ha determinado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Los Supuest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(qué cambios futuros probablemente afecten a su empresa) , debe ingresarlos en cifras para cada año en la hoja supuestos del doctor finanz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920" y="1590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 Consejo Práctico 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grese Los Supuestos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partir del año 2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y en el añ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 sólo refleje un mínimo de cambios pues estos tardan en hacer ef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59084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jemplo de Supuesto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s - Aumento del 3 % en año 1- 5 % a partir del año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s Dir - Sin Var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s Fijos - Reducción de $ 60 m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os Ingresos - Disminuyen a $ 2 m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os Egresos - Sin Vari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8080" y="16030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EJEMPLO: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Bookman Old Style"/>
              </a:rPr>
              <a:t>2000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ño 1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ño 2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ño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r. Vtas   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0 %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2 %      5 %       5 %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t. Dir.    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50 %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50 %   50 %     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t. Fij.     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20 %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20 %   18 %     18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. Ing.       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2 %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1 %     1 %       1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. Egr.       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2 %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2 %     2 %       2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1593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jemplo de Supuesto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Ventas - aumenta a 9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ventarios - se mantiene en 7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veedores - disminuye a 6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versiones - $ 50 mm por año en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trimonio - se capitalizan $ 80 mm el añ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159084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Bookman Old Style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Ejemplo :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400" spc="-1" strike="noStrike" u="sng">
                <a:solidFill>
                  <a:srgbClr val="ff9933"/>
                </a:solidFill>
                <a:uFillTx/>
                <a:latin typeface="Bookman Old Style"/>
              </a:rPr>
              <a:t>2000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ño 1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ño 2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ño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laz. Vtas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65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90        90        90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laz. Inv.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85  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75        60       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laz. Prov.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95</a:t>
            </a:r>
            <a:r>
              <a:rPr b="1" lang="en-US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75        60       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versiones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$ 100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50     $ 50     $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trimonio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Bookman Old Style"/>
              </a:rPr>
              <a:t>$     0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$ 80     $   0     $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16030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ué obtenemos de resulta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alances - Estados de Resultado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lujo de Generación de Fondo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sumen de principales Ind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yectados para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óximos 6 añ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60308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SACAR PROVECHO DE ESTA INFORMACIÓ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nalice los datos obtenidos con la información de los capítul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onceptos Bá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prenda a Leer un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l Flujo de Fon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83808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cc33"/>
                </a:solidFill>
                <a:latin typeface="Bookman Old Style"/>
              </a:rPr>
              <a:t> 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</a:t>
            </a:r>
            <a:r>
              <a:rPr b="1" lang="es-ES_tradnl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809880"/>
            <a:ext cx="2590920" cy="57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95480" y="289548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EL DIAGNÓSTIC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.- Ingrese los datos del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.- Ingrese los datos del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Preocúpese de que los datos cuadren en cer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las filas de autoverificación</a:t>
            </a:r>
            <a:r>
              <a:rPr b="1" i="1" lang="en-U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QUÉ OBTIENE COMO PRODUCT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.- Estado de Generación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.- Resumen de los principales Indices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568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SACAR PROVECHO DE ESTA INFORMACIÓ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alice los datos obtenidos con la información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capítu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ceptos Bás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prenda a Leer un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Flujo de Fo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587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s Proyecciones trabajan con dos elemen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datos del Ultimo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Supuestos de condiciones futuras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1587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s datos del Ultimo Balance son tom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utomáticamente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de la hoja de diagnóstico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sted previamente complet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Los Supuest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consisten en las condiciones má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bables que se presentarán para su empresa dentr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 los próximos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58436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Los Supuest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nos hacen pensar en variaciones a futuro en las Cuentas de Resultad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en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s Dire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stos Fi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os 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os E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44440" y="158436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¿ CÓMO EFECTUAR PROYECCION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L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os Supuestos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nos hacen pensar en variaciones a futuro en cuentas del bal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a Clientes (plaz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ntención de Inventarios (plaz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rédito de Proveedores ( plazo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ambios en el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Cómo proyectar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20:27:21Z</dcterms:created>
  <dc:creator>Ricardo Almazán</dc:creator>
  <dc:description/>
  <dc:language>en-US</dc:language>
  <cp:lastModifiedBy>Oscar Vaquero</cp:lastModifiedBy>
  <dcterms:modified xsi:type="dcterms:W3CDTF">2001-07-20T15:28:19Z</dcterms:modified>
  <cp:revision>47</cp:revision>
  <dc:subject/>
  <dc:title>WWW.ASESORIASONLINE.CL</dc:title>
</cp:coreProperties>
</file>